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32C-A846-4178-B5CC-B133B718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EA2-4761-4B6D-9814-42F3017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71C-3084-4CA4-A7BB-71C051D0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7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9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7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372-0BD6-4923-9A20-7ED9C202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BF8D-2960-4331-8B3B-B36DF8C1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EA7-D219-4BB2-849C-CCE0BF2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EC6E-27E2-4182-B828-583448B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4687-08DF-4DEB-9637-A73E6B9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2444-B3AA-4B0C-B361-F93A3D9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70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8F5F-9626-48A9-BE0A-9CF85D6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3EE7-60EA-410F-AA81-C9A4489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C89-09E4-445E-909F-EBF7905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A38-2E21-4F1D-BC9D-79B343E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C59-C518-454E-AD23-2E9BFAA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1D7-7DE3-4C93-A805-760650B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2080-9D08-4E12-BC2F-D8DF2EFF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47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79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47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E2B0-8E7F-4EBD-95DB-904BE816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676-13D7-4DEE-8520-CD478133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B12-E479-4863-83BE-D2FE0DF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4D4-A0ED-40CA-AE8E-3EC646E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70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190-BA62-4091-9806-5B20694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9AA-ED39-46F4-BE59-AA606EC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F7A-9459-4F89-ACBB-71F67E8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AE5-6205-4618-BB08-270AF1D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11280" y="6244920"/>
            <a:ext cx="98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6556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78440" y="6244920"/>
            <a:ext cx="98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32A-D01A-4020-87A4-F91BD8DD0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4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40464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36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930920" y="6244920"/>
            <a:ext cx="180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81200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D937-98CD-4BD5-9ABA-A33DBD6B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4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2205000"/>
            <a:ext cx="6518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新車発表　イベント　企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5640" y="3141360"/>
            <a:ext cx="532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車販売は、続々と発表されるエコ対応車が牽引して、販売台数を盛り返してきています。より販売にあたり、新車発表時に来店者数を増加させるイベントを企画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59800" y="1890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HG創英角ｺﾞｼｯｸUB"/>
              </a:rPr>
              <a:t>株式会社○○自動車販売　御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0564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株式会社広告代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5440" y="588816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００９．０９．０３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040" y="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５．イベント概算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95640" y="1628640"/>
          <a:ext cx="6192720" cy="3489480"/>
        </p:xfrm>
        <a:graphic>
          <a:graphicData uri="http://schemas.openxmlformats.org/drawingml/2006/table">
            <a:tbl>
              <a:tblPr/>
              <a:tblGrid>
                <a:gridCol w="2065320"/>
                <a:gridCol w="2543040"/>
                <a:gridCol w="158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詳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ツール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リーフ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店内ポップ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案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チラ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印刷代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デザイン費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折込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ベントコンパニオ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人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49600" y="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１．新車発表イベントのコンセプ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836640"/>
            <a:ext cx="57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昨今の、不況にあたり、車離れが進んでいます。市場データから、買替年数を伸ばした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庭の車の所有台数が減少したりと、家計を圧迫するものの一つと捉えら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しかし、現在の車は燃費や維持において、一昔のようにお金がかかるものではなくなりました。減税対象となるなど、メリットも多く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7720" y="3789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家計に優しい車というイメージを創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4006440" y="3141360"/>
            <a:ext cx="23763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2080" y="3718080"/>
            <a:ext cx="5184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570560"/>
            <a:ext cx="57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メージ的にお金がかかるという、不安感を払拭して、家計に負担がかからないということを、しっかりと説明する新車発表イベントを展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51120" y="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．新車発表イベントのバリエ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6121440" cy="4372200"/>
        </p:xfrm>
        <a:graphic>
          <a:graphicData uri="http://schemas.openxmlformats.org/drawingml/2006/table">
            <a:tbl>
              <a:tblPr/>
              <a:tblGrid>
                <a:gridCol w="2160720"/>
                <a:gridCol w="3960720"/>
              </a:tblGrid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エコカー試乗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ーカーのエコカーを全て店頭にラインナップし、乗り比べや、性能の違い、日常の利便性などを、実体験してもらう、試乗イベントの実施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エコカーのメンテナンスポイント説明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、特にハイブリットカーなどのメンテナンスポイントや、メンテナンス費用、故障率などを、明確に説明し、通常のガソリン車との比較を行い、家計に優しいポイントを説明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ご成約抽選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をご成約いただいた、お客様に抽選で、電気自転車をプレゼント抽選会を実施。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低燃費走行のテクニカルブックを作成し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をよりエコに！低燃費走行、環境に優しい自動車との付き合い方を指南する、小冊子を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8480" y="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１．エコカー試乗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13560" y="1689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車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54360" y="1689120"/>
            <a:ext cx="26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試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0" y="2284560"/>
            <a:ext cx="159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応募方法　　事前のご予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募集人数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各車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組まで、計６０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試乗時間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試乗コース　お客様の選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84840" y="3605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試乗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0480" y="35942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者には、購入特典をプレゼ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84840" y="4336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５）試乗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希望者を募集告知を行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6120" y="5265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試乗販売目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39840" y="5265720"/>
            <a:ext cx="5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3400" y="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２．エコカーメンテナンス説明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4840" y="16891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応車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4360" y="1689120"/>
            <a:ext cx="26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360" y="228456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店舗設置のメンテナンスサービス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53760" y="2852640"/>
            <a:ext cx="177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エンジンとバッテリーの場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ッテリーの構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モーターの仕組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ターのメンテナ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ッテリーの寿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3560" y="4336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５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希望者を募集告知を行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56120" y="5265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見込み客獲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560" y="525456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００人　１日あたり１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47720" y="0"/>
            <a:ext cx="25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３．ご成約抽選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200" y="1689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象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6160" y="1689120"/>
            <a:ext cx="28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ご購入されたお客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24880" y="2284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販売店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852640"/>
            <a:ext cx="1995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ご成約いただいたお客様に、エコツーリズムの旅行券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レゼ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京都　紅葉の旅　古都のエコを知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伊豆クルーズ　富士の水の神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熊野古道　残したい遺産の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13560" y="4336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企画を告知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84840" y="5265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７）当選者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44040" y="5254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語勢役者の中から１５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05280" y="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４．低燃費走行のテクニカルブックプレゼ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9200" y="1689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象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70320" y="1677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来店されたお客様全て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4880" y="2284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販売店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20480" y="2852640"/>
            <a:ext cx="124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アイドリングスト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低燃費アクセルワー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適正空気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回転数を意識したドライビングテクニ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安全運転＝低燃費走行だ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全２０ページの小冊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13560" y="4508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0" y="450864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企画を告知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97320" y="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３．各種ツールのデザイン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052640"/>
            <a:ext cx="12952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65600" y="1860480"/>
            <a:ext cx="1295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29080" y="1052640"/>
            <a:ext cx="248292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29080" y="3954600"/>
            <a:ext cx="248292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32240" y="3954600"/>
            <a:ext cx="24825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48080" y="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４．イベントスケジュール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8600" y="17683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612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32120" y="13557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3320" y="199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09880" y="2200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220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792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31240" y="134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０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79600" y="2428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ツール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73520" y="2638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99760" y="3430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ノベルティ手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9880" y="36399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55840" y="293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チラシ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9880" y="3143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400" y="40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ベント準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4600" y="42498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3400" y="4595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ベント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10240" y="4805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4:55:54Z</dcterms:created>
  <dc:creator>insight</dc:creator>
  <dc:description/>
  <dc:language>en-US</dc:language>
  <cp:lastModifiedBy>insight</cp:lastModifiedBy>
  <dcterms:modified xsi:type="dcterms:W3CDTF">2010-02-16T01:20:46Z</dcterms:modified>
  <cp:revision>27</cp:revision>
  <dc:subject/>
  <dc:title>新車発表　イベント　企画</dc:title>
</cp:coreProperties>
</file>