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DB08-7D6B-466A-9CC2-DBB890837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42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42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6920" y="3964320"/>
            <a:ext cx="742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562B-2EAF-462F-87EA-5B8F3480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42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62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3560" y="1600200"/>
            <a:ext cx="362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62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3560" y="3964320"/>
            <a:ext cx="362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0237-8A69-4FEA-912C-3534408F2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42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239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8280" y="1600200"/>
            <a:ext cx="239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49640" y="1600200"/>
            <a:ext cx="239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6920" y="3964320"/>
            <a:ext cx="239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8280" y="3964320"/>
            <a:ext cx="239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49640" y="3964320"/>
            <a:ext cx="239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A7A2-BA95-4A0F-9BBD-3B2C62A36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DA0A-9C09-4232-A16C-B6C561865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42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6920" y="1600200"/>
            <a:ext cx="7428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94A1-DB17-40DD-AE26-B36277EB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42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42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00E9-A57B-4254-951A-8D2F24C7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42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62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600200"/>
            <a:ext cx="362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D082-9C40-44B9-8CD9-20CFB54D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42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14B9-F756-4EC3-8316-5AD0707B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6920" y="274320"/>
            <a:ext cx="7428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7B46-F584-4B69-BE83-322E7AD0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42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62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600200"/>
            <a:ext cx="362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62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D4AD-DCD8-4719-993B-3D274070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42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6920" y="1600200"/>
            <a:ext cx="7428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B3B8-78CB-44DE-975A-DB3FD88C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42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62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600200"/>
            <a:ext cx="362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964320"/>
            <a:ext cx="362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36CE-20BF-44A8-A265-3A05501C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42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62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600200"/>
            <a:ext cx="362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742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7479-C819-4C0B-9DC2-01569899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42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42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6920" y="3964320"/>
            <a:ext cx="742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9605-12AB-442B-BCF0-72D3543A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42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62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600200"/>
            <a:ext cx="362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62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964320"/>
            <a:ext cx="362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17CC-C312-4572-93C2-D08B48F08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42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239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38280" y="1600200"/>
            <a:ext cx="239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49640" y="1600200"/>
            <a:ext cx="239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6920" y="3964320"/>
            <a:ext cx="239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38280" y="3964320"/>
            <a:ext cx="239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49640" y="3964320"/>
            <a:ext cx="239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B526-C58A-42E2-A7EB-BC8874724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42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42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23BC-32E8-4686-A1BD-71A1B975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42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62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3560" y="1600200"/>
            <a:ext cx="362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A90E-EC66-4A17-9840-81C3D0A6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42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D603-2367-423B-8725-41AFE45F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6920" y="274320"/>
            <a:ext cx="7428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B0C1-3925-4AAB-90B3-A4D4BBDD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42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62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3560" y="1600200"/>
            <a:ext cx="362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62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0788-565D-4DD7-9705-4565B537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42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62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3560" y="1600200"/>
            <a:ext cx="362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3560" y="3964320"/>
            <a:ext cx="362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D61A-85D9-4D2B-9258-29E1BE3C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42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62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3560" y="1600200"/>
            <a:ext cx="362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742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1DFD-DD51-4C5C-9707-9DD7CC56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324000" y="0"/>
          <a:ext cx="8532720" cy="685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0"/>
                    <a:ext cx="8532720" cy="68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42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6920" y="1600200"/>
            <a:ext cx="742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8848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320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15600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42A3-E7D4-4DA3-82D9-A0930F2AB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24000" y="0"/>
          <a:ext cx="8532720" cy="685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0"/>
                    <a:ext cx="8532720" cy="68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7480" y="1241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82836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205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37236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E6DA-F4F0-4257-BA20-C5EC30307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748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年間販売促進企画のご提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03280" y="3313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来期の御社販売促進におけ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広告とセールスプロモーション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年間計画案と予算組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81760" y="2556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HG創英角ｺﾞｼｯｸUB"/>
              </a:rPr>
              <a:t>○○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  <a:ea typeface="HG創英角ｺﾞｼｯｸUB"/>
              </a:rPr>
              <a:t>会社　御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05640" y="6308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株式会社広告代理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55440" y="5888160"/>
            <a:ext cx="201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２００９．０９．０３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５－２．新聞折込広告　デザイン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58920" y="1700280"/>
            <a:ext cx="2521080" cy="381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92720" y="1700280"/>
            <a:ext cx="1996920" cy="30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37840" y="1125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Ｂ４デザイン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66600" y="1125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Ａ４デザイン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58920" y="1700280"/>
            <a:ext cx="252108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88040" y="1700280"/>
            <a:ext cx="202068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58920" y="5589720"/>
            <a:ext cx="3168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男性の美的向上心をくすぐる男性モデルを起用し、スキンケアへの啓発と、サンプル申し込みを促進するデザインで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88040" y="5589720"/>
            <a:ext cx="3168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サンプルの申し込みをダイレクトに訴求するため、無料であることと、取得方法を目立つようにしてあるデザインで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６－１．雑誌広告　媒体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76520" y="836640"/>
            <a:ext cx="729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１．雑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523880" y="1474920"/>
          <a:ext cx="6864480" cy="1738080"/>
        </p:xfrm>
        <a:graphic>
          <a:graphicData uri="http://schemas.openxmlformats.org/drawingml/2006/table">
            <a:tbl>
              <a:tblPr/>
              <a:tblGrid>
                <a:gridCol w="1824120"/>
                <a:gridCol w="5040360"/>
              </a:tblGrid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HG創英角ｺﾞｼｯｸUB"/>
                        </a:rPr>
                        <a:t>Ａ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ビジネス系の情報を中心とした、エグゼクティブ向けの情報誌で、自己投資をしっかりと行う読者層が多いため、反響率の期待が高い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HG創英角ｺﾞｼｯｸUB"/>
                        </a:rPr>
                        <a:t>Ｂ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ィットネス系の体を磨くための雑誌、ターゲットはアスリートが多い。読者はアスリートですが、アスリートの大半は、営業職や管理職の方が多く、内面的に自分磨きや闘争心を持っていることが推測されるため、反響があると考えられる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1005120" y="3860640"/>
            <a:ext cx="1415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２．フリーペーパ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523880" y="4470480"/>
          <a:ext cx="6864480" cy="1738080"/>
        </p:xfrm>
        <a:graphic>
          <a:graphicData uri="http://schemas.openxmlformats.org/drawingml/2006/table">
            <a:tbl>
              <a:tblPr/>
              <a:tblGrid>
                <a:gridCol w="1824120"/>
                <a:gridCol w="5040360"/>
              </a:tblGrid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HG創英角ｺﾞｼｯｸUB"/>
                        </a:rPr>
                        <a:t>Ｃ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ゴルフ専門のフリーペーパーですが、高級品の広告出稿が多く、フリーペーパーとしてもブランドイメージが高い為、商品のブランドイメージを作るうえで、解りやすい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HG創英角ｺﾞｼｯｸUB"/>
                        </a:rPr>
                        <a:t>Ｄ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健康を中心とした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代以上向けの趣味的な内容を中心とした情報誌。釣り、アウトドア、健康増進、ホビーなど幅広い情報で読者層も多い。特集内容とあわせた広告出稿により、反響が期待できる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8920" y="1700280"/>
            <a:ext cx="2521080" cy="381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92720" y="1700280"/>
            <a:ext cx="1996920" cy="30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37840" y="1125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Ａ誌デザイン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66600" y="1125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Ｂ誌デザイン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58920" y="1700280"/>
            <a:ext cx="252108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88040" y="1700280"/>
            <a:ext cx="202068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６－２．雑誌広告　デザイン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７－１．交通広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3680" y="836640"/>
            <a:ext cx="1140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１．駅別の選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523880" y="1397160"/>
          <a:ext cx="6864480" cy="1568160"/>
        </p:xfrm>
        <a:graphic>
          <a:graphicData uri="http://schemas.openxmlformats.org/drawingml/2006/table">
            <a:tbl>
              <a:tblPr/>
              <a:tblGrid>
                <a:gridCol w="1463760"/>
                <a:gridCol w="5400720"/>
              </a:tblGrid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HG創英角ｺﾞｼｯｸUB"/>
                        </a:rPr>
                        <a:t>○○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HG創英角ｺﾞｼｯｸUB"/>
                        </a:rPr>
                        <a:t>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万人の乗降客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駅近隣には、ターゲットが居住する、○○ニュータウンがあり、ターゲットへの訴求率はとても高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HG創英角ｺﾞｼｯｸUB"/>
                        </a:rPr>
                        <a:t>■■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HG創英角ｺﾞｼｯｸUB"/>
                        </a:rPr>
                        <a:t>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万人の乗降客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ビジネス街の駅であることから、もっともターゲットへ訴求できる交通媒体の一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1005120" y="4941720"/>
            <a:ext cx="1415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３．交通媒体の選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59400" y="3075120"/>
            <a:ext cx="127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２．路線別の選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523880" y="3556080"/>
          <a:ext cx="6864480" cy="1036440"/>
        </p:xfrm>
        <a:graphic>
          <a:graphicData uri="http://schemas.openxmlformats.org/drawingml/2006/table">
            <a:tbl>
              <a:tblPr/>
              <a:tblGrid>
                <a:gridCol w="1463760"/>
                <a:gridCol w="5400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HG創英角ｺﾞｼｯｸUB"/>
                        </a:rPr>
                        <a:t>○△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HG創英角ｺﾞｼｯｸUB"/>
                        </a:rPr>
                        <a:t>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要路線であり、路線上には住宅地とビジネス街が存在し、もっとも利用客数の多い路線で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HG創英角ｺﾞｼｯｸUB"/>
                        </a:rPr>
                        <a:t>■△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HG創英角ｺﾞｼｯｸUB"/>
                        </a:rPr>
                        <a:t>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郊外と都心を結ぶ路線で、郊外に隣接するニュータウンからの通勤客と学生が利用す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1523880" y="5411880"/>
          <a:ext cx="6864480" cy="1036440"/>
        </p:xfrm>
        <a:graphic>
          <a:graphicData uri="http://schemas.openxmlformats.org/drawingml/2006/table">
            <a:tbl>
              <a:tblPr/>
              <a:tblGrid>
                <a:gridCol w="1463760"/>
                <a:gridCol w="5400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HG創英角ｺﾞｼｯｸUB"/>
                        </a:rPr>
                        <a:t>駅張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ターゲットが乗降する駅では、メインとなる駅張りスペースに広告を展開し、通勤時間には、動画によるＣＭを配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HG創英角ｺﾞｼｯｸUB"/>
                        </a:rPr>
                        <a:t>中吊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郊外路線では、長時間乗っているため、中吊りをしっかり見てもらえると想定できる為、郊外の路線では中吊りを展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７－２．交通広告　デザイン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58920" y="1700280"/>
            <a:ext cx="2521080" cy="381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92720" y="1700280"/>
            <a:ext cx="1996920" cy="30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83560" y="1125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中吊りデザイン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12320" y="1125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駅張りデザイン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58920" y="1700280"/>
            <a:ext cx="252108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88040" y="1700280"/>
            <a:ext cx="202068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８．スケジュ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15680" y="1195560"/>
            <a:ext cx="546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企画提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15680" y="1646280"/>
            <a:ext cx="546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企画修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15680" y="2070000"/>
            <a:ext cx="546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媒体手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21800" y="2495520"/>
            <a:ext cx="7293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イベント手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46280" y="2984400"/>
            <a:ext cx="637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制作物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46280" y="3419640"/>
            <a:ext cx="637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制作物構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15680" y="3922560"/>
            <a:ext cx="546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媒体掲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21800" y="4319640"/>
            <a:ext cx="7293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イベント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15680" y="4797360"/>
            <a:ext cx="546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結果検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8360" y="1125360"/>
            <a:ext cx="83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03280" y="1341360"/>
            <a:ext cx="72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98520" y="1806480"/>
            <a:ext cx="72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33720" y="2178000"/>
            <a:ext cx="72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73320" y="2616120"/>
            <a:ext cx="72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51280" y="3119400"/>
            <a:ext cx="1728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580000" y="351792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243480" y="4035600"/>
            <a:ext cx="992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43480" y="4446720"/>
            <a:ext cx="992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29600" y="5002200"/>
            <a:ext cx="555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９．概算予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11280" y="836640"/>
          <a:ext cx="7993080" cy="4851360"/>
        </p:xfrm>
        <a:graphic>
          <a:graphicData uri="http://schemas.openxmlformats.org/drawingml/2006/table">
            <a:tbl>
              <a:tblPr/>
              <a:tblGrid>
                <a:gridCol w="2448000"/>
                <a:gridCol w="3647880"/>
                <a:gridCol w="18972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項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内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費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肌質チェッ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スキンケア講習体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サンプル配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サンプリン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プレゼント泡立てネッ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プレゼントスキンケア辞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折込費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チラシ印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チラシデザイン費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雑誌媒体費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雑誌デザイン費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交通媒体費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交通広告デザイン費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各種撮影費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556000" y="54936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年間販売促進企画の目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19280" y="1268280"/>
            <a:ext cx="6049800" cy="43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１．企画のコンセプ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企画全体を包括するテーマを記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２．市場環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ターゲットの消費行動に関する環境を記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３．競合環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競合他社に関する動向を記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４．セールスプロモ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コンセプトに基づいたイベント、販売促進企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５．新聞折込広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ターゲットに露出させる、新聞選定、配布エリア、デザイン案を記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６．雑誌広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ターゲットに露出させる、雑誌選定、デザイン案を記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７．交通広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ターゲットに露出させる、交通広告選定、デザイン案を記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906560" y="3716280"/>
            <a:ext cx="5761080" cy="16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33640" y="1484280"/>
            <a:ext cx="1584360" cy="158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0920" y="1484280"/>
            <a:ext cx="1584360" cy="158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16720" y="1484280"/>
            <a:ext cx="1584360" cy="158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１．企画のコンセプ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70600" y="195588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熱狂的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ファン作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60280" y="19558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新たな客層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取り込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09760" y="2092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ブランド理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24200" y="1916280"/>
            <a:ext cx="792000" cy="718920"/>
          </a:xfrm>
          <a:prstGeom prst="rightArrow">
            <a:avLst>
              <a:gd name="adj1" fmla="val 50000"/>
              <a:gd name="adj2" fmla="val 275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61000" y="1916280"/>
            <a:ext cx="792360" cy="718920"/>
          </a:xfrm>
          <a:prstGeom prst="rightArrow">
            <a:avLst>
              <a:gd name="adj1" fmla="val 50000"/>
              <a:gd name="adj2" fmla="val 275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99720" y="4363920"/>
            <a:ext cx="2919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昨今の不景気の中、ブランドコミュニケーション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行う前段階としての、徹底した客数を取り込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量的な戦略を中心とした企画を行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15800" y="37162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カスタマープライスメリッ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498760" y="2062080"/>
            <a:ext cx="1655640" cy="16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03640" y="2062080"/>
            <a:ext cx="1656000" cy="16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２．市場環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06200" y="225756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創英角ｺﾞｼｯｸUB"/>
                <a:ea typeface="HG創英角ｺﾞｼｯｸUB"/>
              </a:rPr>
              <a:t>平成</a:t>
            </a:r>
            <a:r>
              <a:rPr b="0" lang="en-US" sz="2000" spc="-1" strike="noStrike">
                <a:solidFill>
                  <a:srgbClr val="000000"/>
                </a:solidFill>
                <a:latin typeface="HG創英角ｺﾞｼｯｸUB"/>
                <a:ea typeface="HG創英角ｺﾞｼｯｸUB"/>
              </a:rPr>
              <a:t>18</a:t>
            </a:r>
            <a:r>
              <a:rPr b="0" lang="zh-CN" sz="2000" spc="-1" strike="noStrike">
                <a:solidFill>
                  <a:srgbClr val="000000"/>
                </a:solidFill>
                <a:latin typeface="HG創英角ｺﾞｼｯｸUB"/>
                <a:ea typeface="HG創英角ｺﾞｼｯｸUB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99280" y="22575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創英角ｺﾞｼｯｸUB"/>
                <a:ea typeface="HG創英角ｺﾞｼｯｸUB"/>
              </a:rPr>
              <a:t>平成２０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55800" y="289404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創英角ｺﾞｼｯｸUB"/>
                <a:ea typeface="HG創英角ｺﾞｼｯｸUB"/>
              </a:rPr>
              <a:t>179</a:t>
            </a:r>
            <a:r>
              <a:rPr b="0" lang="zh-CN" sz="2400" spc="-1" strike="noStrike">
                <a:solidFill>
                  <a:srgbClr val="000000"/>
                </a:solidFill>
                <a:latin typeface="HG創英角ｺﾞｼｯｸUB"/>
                <a:ea typeface="HG創英角ｺﾞｼｯｸUB"/>
              </a:rPr>
              <a:t>億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88040" y="289404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創英角ｺﾞｼｯｸUB"/>
                <a:ea typeface="HG創英角ｺﾞｼｯｸUB"/>
              </a:rPr>
              <a:t>205</a:t>
            </a:r>
            <a:r>
              <a:rPr b="0" lang="zh-CN" sz="2400" spc="-1" strike="noStrike">
                <a:solidFill>
                  <a:srgbClr val="000000"/>
                </a:solidFill>
                <a:latin typeface="HG創英角ｺﾞｼｯｸUB"/>
                <a:ea typeface="HG創英角ｺﾞｼｯｸUB"/>
              </a:rPr>
              <a:t>億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94000" y="2565360"/>
            <a:ext cx="792360" cy="719280"/>
          </a:xfrm>
          <a:prstGeom prst="rightArrow">
            <a:avLst>
              <a:gd name="adj1" fmla="val 50000"/>
              <a:gd name="adj2" fmla="val 2754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53080" y="1382760"/>
            <a:ext cx="1643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創英角ｺﾞｼｯｸUB"/>
                <a:ea typeface="HG創英角ｺﾞｼｯｸUB"/>
              </a:rPr>
              <a:t>１１４％の伸び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13680" y="836640"/>
            <a:ext cx="1140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（１）市場規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13680" y="4214880"/>
            <a:ext cx="1140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（２）市場特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96680" y="4797360"/>
            <a:ext cx="6318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化粧水を中心とした市場から、乳液やポイントケアなど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専門性の高い基礎化粧品の種類への需要が高くなってい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規利用者もまだまだ増加している過程にあり、市場規模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段の拡大も期待でき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rot="16200000">
            <a:off x="3959640" y="-783720"/>
            <a:ext cx="1729080" cy="5832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３．競合環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3680" y="836640"/>
            <a:ext cx="1140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（１）商品戦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13680" y="4869000"/>
            <a:ext cx="1140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（２）販売戦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79640" y="1484280"/>
            <a:ext cx="1297080" cy="129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35600" y="1916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創英角ｺﾞｼｯｸUB"/>
                <a:ea typeface="HG創英角ｺﾞｼｯｸUB"/>
              </a:rPr>
              <a:t>化粧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81920" y="3500280"/>
            <a:ext cx="196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化粧水を中心とした展開か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12000" y="2349360"/>
            <a:ext cx="934920" cy="93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10360" y="2617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創英角ｺﾞｼｯｸUB"/>
                <a:ea typeface="HG創英角ｺﾞｼｯｸUB"/>
              </a:rPr>
              <a:t>乳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72040" y="1870200"/>
            <a:ext cx="934920" cy="9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70400" y="2138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創英角ｺﾞｼｯｸUB"/>
                <a:ea typeface="HG創英角ｺﾞｼｯｸUB"/>
              </a:rPr>
              <a:t>し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840280" y="1220760"/>
            <a:ext cx="935280" cy="9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39000" y="14889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創英角ｺﾞｼｯｸUB"/>
                <a:ea typeface="HG創英角ｺﾞｼｯｸUB"/>
              </a:rPr>
              <a:t>シ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54680" y="1751040"/>
            <a:ext cx="935280" cy="9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86800" y="20192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創英角ｺﾞｼｯｸUB"/>
                <a:ea typeface="HG創英角ｺﾞｼｯｸUB"/>
              </a:rPr>
              <a:t>日焼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469280" y="1076400"/>
            <a:ext cx="934920" cy="9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99320" y="1344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創英角ｺﾞｼｯｸUB"/>
                <a:ea typeface="HG創英角ｺﾞｼｯｸUB"/>
              </a:rPr>
              <a:t>保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23280" y="2374920"/>
            <a:ext cx="934920" cy="9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753320" y="26431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創英角ｺﾞｼｯｸUB"/>
                <a:ea typeface="HG創英角ｺﾞｼｯｸUB"/>
              </a:rPr>
              <a:t>毛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92560" y="3429000"/>
            <a:ext cx="1963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ニーズを満たす細分化され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専門性の高いラインナップ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11120" y="5373720"/>
            <a:ext cx="3198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ドラッグストア、百貨店などの流通から展開しているメーカー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ネットのみを中心に展開しているメーカーがあ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４－１．セールスプロモーション　コンセプ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8840" y="1484280"/>
            <a:ext cx="1278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新規客の取り込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6600" y="1484280"/>
            <a:ext cx="1278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プライスメリッ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90880" y="3178080"/>
            <a:ext cx="2375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HG創英角ｺﾞｼｯｸUB"/>
              </a:rPr>
              <a:t>男性化粧品エクスペエン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995640" y="2348640"/>
            <a:ext cx="2449440" cy="576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17120" y="1484280"/>
            <a:ext cx="1140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企画コンセプ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11280" y="1341360"/>
            <a:ext cx="5616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45480" y="3068640"/>
            <a:ext cx="11408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プロモ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コンセプ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71640" y="3808440"/>
            <a:ext cx="4824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規客を掴むには、まだまだ男性化粧品のことを知らない人も多い。価格がどれくらいなのかも知らない人が多い為、まずは一度、体験（エクスペリエンス）してもらうことを主体した、セールスプロモーションを展開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４－２．セールスプロモーション　イベント企画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05120" y="836640"/>
            <a:ext cx="1415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（１）店頭イベン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05120" y="4869000"/>
            <a:ext cx="1415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（２）街頭イベン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523880" y="1397160"/>
          <a:ext cx="6864480" cy="3109680"/>
        </p:xfrm>
        <a:graphic>
          <a:graphicData uri="http://schemas.openxmlformats.org/drawingml/2006/table">
            <a:tbl>
              <a:tblPr/>
              <a:tblGrid>
                <a:gridCol w="2111400"/>
                <a:gridCol w="4753080"/>
              </a:tblGrid>
              <a:tr h="166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HG創英角ｺﾞｼｯｸUB"/>
                        </a:rPr>
                        <a:t>肌質チェッ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店頭にて、男性のお客様に対して、各種肌チェックを行い、スキンケアの大切さを啓発する</a:t>
                      </a:r>
                      <a:r>
                        <a:rPr b="1" lang="zh-CN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体験イベン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肌質チェックの企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肌年齢のチェック</a:t>
                      </a:r>
                      <a:br>
                        <a:rPr sz="1400"/>
                      </a:b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シミチェック</a:t>
                      </a:r>
                      <a:br>
                        <a:rPr sz="1400"/>
                      </a:b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毛穴チェック</a:t>
                      </a:r>
                      <a:br>
                        <a:rPr sz="1400"/>
                      </a:b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しわ、たるみチェッ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HG創英角ｺﾞｼｯｸUB"/>
                        </a:rPr>
                        <a:t>スキンケア講習体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スキンケアに興味を持っている男性に対して、スキンケアの方法、基礎化粧品の使い方、選び方などを実際に使いながらアドバイスを行う</a:t>
                      </a:r>
                      <a:r>
                        <a:rPr b="1" lang="zh-CN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体験イベン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HG創英角ｺﾞｼｯｸUB"/>
                        </a:rPr>
                        <a:t>サンプル配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店頭にて、無料サンプルを男性のお客様に配布して、実際に</a:t>
                      </a:r>
                      <a:r>
                        <a:rPr b="1" lang="zh-CN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体験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をしていただく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1523880" y="5373720"/>
          <a:ext cx="6864480" cy="433440"/>
        </p:xfrm>
        <a:graphic>
          <a:graphicData uri="http://schemas.openxmlformats.org/drawingml/2006/table">
            <a:tbl>
              <a:tblPr/>
              <a:tblGrid>
                <a:gridCol w="2111400"/>
                <a:gridCol w="475308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HG創英角ｺﾞｼｯｸUB"/>
                        </a:rPr>
                        <a:t>サンプリン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モデルの男性を使い、男性化粧品をサンプリングす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４－３．セールスプロモーション　購入促進企画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05120" y="836640"/>
            <a:ext cx="1415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（１）初回購入特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96560" y="4033800"/>
            <a:ext cx="1689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（２）リピート購入特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523880" y="1397160"/>
          <a:ext cx="6864480" cy="2234880"/>
        </p:xfrm>
        <a:graphic>
          <a:graphicData uri="http://schemas.openxmlformats.org/drawingml/2006/table">
            <a:tbl>
              <a:tblPr/>
              <a:tblGrid>
                <a:gridCol w="2111400"/>
                <a:gridCol w="4753080"/>
              </a:tblGrid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HG創英角ｺﾞｼｯｸUB"/>
                        </a:rPr>
                        <a:t>セット割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洗顔、化粧水、保湿クリームの基礎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点セットをお買い上げのお客様には、３０％ＯＦＦのセット割引特典を、期間限定で実施し、購入単価増を獲得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HG創英角ｺﾞｼｯｸUB"/>
                        </a:rPr>
                        <a:t>体験セットを販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未購入者の獲得を行う為に、体験セットを作成し低価格にて販売。まずは実感していただくことが、大切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HG創英角ｺﾞｼｯｸUB"/>
                        </a:rPr>
                        <a:t>泡立てネットプレゼ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洗顔をお買い上げのお客様へ、泡立てネットをプレゼント。他の企画とかぶらないように、実施期間は要検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1523880" y="4724280"/>
          <a:ext cx="6864480" cy="1515960"/>
        </p:xfrm>
        <a:graphic>
          <a:graphicData uri="http://schemas.openxmlformats.org/drawingml/2006/table">
            <a:tbl>
              <a:tblPr/>
              <a:tblGrid>
                <a:gridCol w="2111400"/>
                <a:gridCol w="4753080"/>
              </a:tblGrid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HG創英角ｺﾞｼｯｸUB"/>
                        </a:rPr>
                        <a:t>ポイントキャンペー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リピート購入していただいているお客様に、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円以上の同時注文で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％のポイントバックキャンペーンを実施。購入客単価増を獲得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HG創英角ｺﾞｼｯｸUB"/>
                        </a:rPr>
                        <a:t>スキンケア辞典をプレゼ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期間中、購入いただいたお客様へ、スキンケア辞典を全員にプレゼント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５－１．新聞折込広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05120" y="836640"/>
            <a:ext cx="1415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１．ターゲティン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523880" y="1397160"/>
          <a:ext cx="6864480" cy="1884240"/>
        </p:xfrm>
        <a:graphic>
          <a:graphicData uri="http://schemas.openxmlformats.org/drawingml/2006/table">
            <a:tbl>
              <a:tblPr/>
              <a:tblGrid>
                <a:gridCol w="2111400"/>
                <a:gridCol w="4753080"/>
              </a:tblGrid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HG創英角ｺﾞｼｯｸUB"/>
                        </a:rPr>
                        <a:t>ターゲット属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代半ばから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代前半の男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営業職、管理職、経営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所帯持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持ち家比率が高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HG創英角ｺﾞｼｯｸUB"/>
                        </a:rPr>
                        <a:t>プロファイル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自分磨きを行ってい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ファッション性向が高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スキンケアに興味があ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1142280" y="3460680"/>
            <a:ext cx="1826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２．エリアマーケティン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530360" y="3913200"/>
          <a:ext cx="3983040" cy="28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0360" y="3913200"/>
                    <a:ext cx="3983040" cy="28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5651640" y="3933720"/>
            <a:ext cx="3168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ＧＩＳのデータをもとに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代の居住エリアを選択。新聞の折込チラシは色の濃い部分に配布す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布総量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万部を予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0:28:41Z</dcterms:created>
  <dc:creator>insight</dc:creator>
  <dc:description/>
  <dc:language>en-US</dc:language>
  <cp:lastModifiedBy>insight</cp:lastModifiedBy>
  <dcterms:modified xsi:type="dcterms:W3CDTF">2009-10-23T04:38:49Z</dcterms:modified>
  <cp:revision>33</cp:revision>
  <dc:subject/>
  <dc:title>年間販売促進企画のご提案</dc:title>
</cp:coreProperties>
</file>