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117-B200-4CED-905E-7E259260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79280" y="3964320"/>
            <a:ext cx="670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32A-B464-403F-AF16-9189B10C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79280" y="396432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16200" y="396432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470-A4A3-4CA9-9D22-615C0A45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47280" y="160020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15280" y="160020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79280" y="396432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47280" y="396432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15280" y="396432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939-AD80-4EFA-B71E-09420B3C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5C1A-0E5E-4039-B37D-30EC6F56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58FD-CCB0-47E9-802A-5C5D2C10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7739-7564-432D-B940-4E064AA3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DF31-5F02-40E0-A457-D4139BB3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ADE7-67CC-47F8-AD41-58C8E6F9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79280" y="274320"/>
            <a:ext cx="6707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C1EA-6C05-4D68-9110-BCCE2E62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79280" y="396432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2AB4-3C69-4FD2-A85A-9CB35515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4E2-F2B9-494F-B798-4E5503A6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16200" y="396432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6ED1-76ED-4FE7-94D9-99E6621D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79280" y="3964320"/>
            <a:ext cx="670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F4EB-FF4C-44B5-AE7C-39D4E956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79280" y="3964320"/>
            <a:ext cx="670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5973-4FA9-4C97-AF58-015BE7F9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79280" y="396432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16200" y="396432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1F4C-A6C8-4CF7-AA9F-A6A8CDD5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47280" y="160020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15280" y="160020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79280" y="396432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47280" y="396432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15280" y="3964320"/>
            <a:ext cx="215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BB6D-3197-4064-8A29-DF4D2E31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A5E-2790-4746-8747-EAD583C6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515-17D6-4E66-8D19-D7DD23FC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226-D828-4856-AD83-DE825DEF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79280" y="274320"/>
            <a:ext cx="6707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509-6F4F-4EAD-BCA0-613E2CEC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79280" y="396432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573-AE63-4A6F-8154-92BCCC23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16200" y="396432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253-4FC1-459E-BA21-2CCCF620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6200" y="1600200"/>
            <a:ext cx="3272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79280" y="3964320"/>
            <a:ext cx="6707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171-4D61-4090-B8ED-E9446975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11280" y="6244920"/>
            <a:ext cx="98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65560" y="6244920"/>
            <a:ext cx="13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78440" y="6244920"/>
            <a:ext cx="98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5E13-FAB4-4B90-84F4-B6D25A9C3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84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280" y="404640"/>
            <a:ext cx="71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268360" y="6244920"/>
            <a:ext cx="13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4930920" y="6244920"/>
            <a:ext cx="1807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812000" y="6244920"/>
            <a:ext cx="13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5168-4016-4759-B258-3B0ADB5DC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842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7640" y="2205000"/>
            <a:ext cx="6518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新車発表　イベント　企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55640" y="3141360"/>
            <a:ext cx="532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車販売は、続々と発表されるエコ対応車が牽引して、販売台数を盛り返してきています。より販売にあたり、新車発表時に来店者数を増加させるイベントを企画し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59800" y="1890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HG創英角ｺﾞｼｯｸUB"/>
              </a:rPr>
              <a:t>株式会社○○自動車販売　御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05640" y="63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株式会社広告代理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5440" y="5888160"/>
            <a:ext cx="20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２００９．０９．０３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345040" y="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５．イベント概算予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195640" y="1628640"/>
          <a:ext cx="6192720" cy="3489480"/>
        </p:xfrm>
        <a:graphic>
          <a:graphicData uri="http://schemas.openxmlformats.org/drawingml/2006/table">
            <a:tbl>
              <a:tblPr/>
              <a:tblGrid>
                <a:gridCol w="2065320"/>
                <a:gridCol w="2543040"/>
                <a:gridCol w="1584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項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詳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費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ツール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リーフ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店内ポップ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案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○○○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円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○○○円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○○○円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○○○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チラ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印刷代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デザイン費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折込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○○○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円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○○○円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○○○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イベントコンパニオ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人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○○○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49600" y="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１．新車発表イベントのコンセプ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836640"/>
            <a:ext cx="57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昨今の、不況にあたり、車離れが進んでいます。市場データから、買替年数を伸ばしたり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家庭の車の所有台数が減少したりと、家計を圧迫するものの一つと捉えられ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しかし、現在の車は燃費や維持において、一昔のようにお金がかかるものではなくなりました。減税対象となるなど、メリットも多く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7720" y="378936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家計に優しい車というイメージを創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4006440" y="3141360"/>
            <a:ext cx="2376360" cy="360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02080" y="3718080"/>
            <a:ext cx="5184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4570560"/>
            <a:ext cx="57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メージ的にお金がかかるという、不安感を払拭して、家計に負担がかからないということを、しっかりと説明する新車発表イベントを展開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51120" y="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２．新車発表イベントのバリエーショ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11280" y="1268280"/>
          <a:ext cx="6121440" cy="4372200"/>
        </p:xfrm>
        <a:graphic>
          <a:graphicData uri="http://schemas.openxmlformats.org/drawingml/2006/table">
            <a:tbl>
              <a:tblPr/>
              <a:tblGrid>
                <a:gridCol w="2160720"/>
                <a:gridCol w="3960720"/>
              </a:tblGrid>
              <a:tr h="13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S創英角ｺﾞｼｯｸUB"/>
                        </a:rPr>
                        <a:t>エコカー試乗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ーカーのエコカーを全て店頭にラインナップし、乗り比べや、性能の違い、日常の利便性などを、実体験してもらう、試乗イベントの実施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S創英角ｺﾞｼｯｸUB"/>
                        </a:rPr>
                        <a:t>エコカーのメンテナンスポイント説明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エコカー、特にハイブリットカーなどのメンテナンスポイントや、メンテナンス費用、故障率などを、明確に説明し、通常のガソリン車との比較を行い、家計に優しいポイントを説明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S創英角ｺﾞｼｯｸUB"/>
                        </a:rPr>
                        <a:t>ご成約抽選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エコカーをご成約いただいた、お客様に抽選で、電気自転車をプレゼント抽選会を実施。</a:t>
                      </a:r>
                      <a:br>
                        <a:rPr sz="1600"/>
                      </a:b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S創英角ｺﾞｼｯｸUB"/>
                        </a:rPr>
                        <a:t>低燃費走行のテクニカルブックを作成しプレゼ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エコカーをよりエコに！低燃費走行、環境に優しい自動車との付き合い方を指南する、小冊子をプレゼ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98480" y="0"/>
            <a:ext cx="27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２－１．エコカー試乗会　実施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84840" y="1125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１）実施日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41360" y="1125360"/>
            <a:ext cx="265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（土）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（日）ま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13560" y="16891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２）車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54360" y="1689120"/>
            <a:ext cx="265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ハイブリッドのセダン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ファミリー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V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13560" y="22953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３）試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98800" y="2284560"/>
            <a:ext cx="1592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応募方法　　事前のご予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募集人数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各車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組まで、計６０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試乗時間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時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試乗コース　お客様の選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84840" y="3605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４）試乗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90480" y="359424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試乗者には、購入特典をプレゼ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84840" y="43369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５）試乗告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65600" y="4336920"/>
            <a:ext cx="229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週間前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週間前のそれぞれ新聞折込チラシ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試乗希望者を募集告知を行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56120" y="52657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６）試乗販売目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39840" y="5265720"/>
            <a:ext cx="5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03400" y="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２－２．エコカーメンテナンス説明会　実施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4840" y="1125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１）実施日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41360" y="1125360"/>
            <a:ext cx="265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（土）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（日）ま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84840" y="16891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２）対応車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54360" y="1689120"/>
            <a:ext cx="265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ハイブリッドのセダン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ファミリー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V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13560" y="22953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３）会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360" y="228456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店舗設置のメンテナンスサービスに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3560" y="2863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４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53760" y="2852640"/>
            <a:ext cx="1770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エンジンとバッテリーの場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バッテリーの構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モーターの仕組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ターのメンテナ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バッテリーの寿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13560" y="43369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５）告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65600" y="4336920"/>
            <a:ext cx="229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週間前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週間前のそれぞれ新聞折込チラシ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試乗希望者を募集告知を行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56120" y="52657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６）見込み客獲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20560" y="525456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２００人　１日あたり１０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47720" y="0"/>
            <a:ext cx="25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２－３．ご成約抽選会　実施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84840" y="1125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１）実施日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41360" y="1125360"/>
            <a:ext cx="265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（土）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（日）ま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49200" y="1689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２）対象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56160" y="1689120"/>
            <a:ext cx="280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ハイブリッドのセダン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ファミリー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V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ご購入されたお客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13560" y="22953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３）会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24880" y="22845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各販売店に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13560" y="2863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４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2852640"/>
            <a:ext cx="1995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ご成約いただいたお客様に、エコツーリズムの旅行券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プレゼ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京都　紅葉の旅　古都のエコを知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伊豆クルーズ　富士の水の神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熊野古道　残したい遺産の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13560" y="43369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６）告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0" y="4336920"/>
            <a:ext cx="229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週間前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週間前のそれぞれ新聞折込チラシ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企画を告知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84840" y="5265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７）当選者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44040" y="52545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語勢役者の中から１５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05280" y="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２－４．低燃費走行のテクニカルブックプレゼ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84840" y="1125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１）実施日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41360" y="1125360"/>
            <a:ext cx="265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（土）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（日）ま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49200" y="1689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２）対象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70320" y="16779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来店されたお客様全て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13560" y="22953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３）会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4880" y="22845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各販売店に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13560" y="2863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４）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20480" y="2852640"/>
            <a:ext cx="1247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アイドリングスト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低燃費アクセルワー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適正空気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回転数を意識したドライビングテクニッ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安全運転＝低燃費走行だ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全２０ページの小冊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13560" y="4508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６）告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65600" y="4508640"/>
            <a:ext cx="229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週間前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週間前のそれぞれ新聞折込チラシ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企画を告知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497320" y="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３．各種ツールのデザイン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052640"/>
            <a:ext cx="129528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65600" y="1860480"/>
            <a:ext cx="129528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29080" y="1052640"/>
            <a:ext cx="248292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29080" y="3954600"/>
            <a:ext cx="248292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32240" y="3954600"/>
            <a:ext cx="248256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48080" y="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ｺﾞｼｯｸUB"/>
              </a:rPr>
              <a:t>４．イベントスケジュール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38600" y="176832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36120" y="1341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９／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32120" y="13557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／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3320" y="1990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09880" y="22003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2200" y="1341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７／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7920" y="1341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８／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31240" y="1341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０／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79600" y="2428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ツール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73520" y="26384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99760" y="3430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ノベルティ手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9880" y="36399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55840" y="293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チラシ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9880" y="31431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3400" y="404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ベント準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4600" y="42498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63400" y="4595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ベント実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10240" y="4805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4:55:54Z</dcterms:created>
  <dc:creator>insight</dc:creator>
  <dc:description/>
  <dc:language>en-US</dc:language>
  <cp:lastModifiedBy>insight</cp:lastModifiedBy>
  <dcterms:modified xsi:type="dcterms:W3CDTF">2010-02-16T01:20:46Z</dcterms:modified>
  <cp:revision>27</cp:revision>
  <dc:subject/>
  <dc:title>新車発表　イベント　企画</dc:title>
</cp:coreProperties>
</file>